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wmf" ContentType="image/x-wmf"/>
  <Override PartName="/ppt/media/image10.png" ContentType="image/png"/>
  <Override PartName="/ppt/media/image5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dt" idx="18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ftr" idx="19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 type="sldNum" idx="20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246423C-5320-4D6D-B26B-C6E5219375F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BC8387C-7E4A-4F5F-8107-DA02CBBDBF4C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3516314-2909-456D-B396-12420D60020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AA79-87B5-4EF2-9DC2-4E417AF5F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0F57-AFEA-4094-9EE4-1093ACA4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C32988-8904-46FF-AF28-8647E7056D8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97EF69-3B7D-45B7-ACB4-F605CB9C4AF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7E931E-2543-48A6-88CB-7841C73CB46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FCE83E-1E05-438E-9C62-559D3AD5BCD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6EA2BA-6BEA-4DB1-8F14-2BA7E590AB6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D4A97C-1A90-4EBF-8617-FB415D44D31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DE6B13-7D3B-49DB-967C-022AD279CF8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AB5FD5-399D-412E-8B04-FD9B51202AA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3D2325-B5F0-4AC8-851A-A43FDAC0328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C7D6A7-8DD8-42A3-945E-2B03474AE2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40BE-D7B3-4F54-831C-1A12FCE3F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E6EBF9-149B-4226-80A3-0EA36F95917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7EEE9F-64A5-42B7-A4E0-B66012E573F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D1F09B-B6B4-42AF-9A20-8CBE0487792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46E5FF-3BED-4EE4-BBB9-90758BF647D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5344B3-1DEE-4A62-B299-64EB2D472DB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7FEF0A-5BCB-43BB-94CA-466F6A1755C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0AC010-5445-4939-A5A4-D8FE272CF7C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7D2F29-7452-4F3D-B12B-7436CEF2B9C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941E68-ED4B-45FB-8502-CB166BA7D0E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BACE73-ADED-43F3-BFF1-A343E5E4D5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3C05-F20B-4348-97D5-1E36A719B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1032DC-C970-4F0A-998A-68ACFA9D479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CDA9A-76C7-4A37-972B-BB12EACA5E0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43D81-9154-42E4-88D9-036C6D7D08B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BEE8A-C088-40DA-947B-59DA38FE0E3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E850D-24C4-4A26-AE12-F74BCD0C182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E5BD8-13CF-4D45-B604-4F9A9972C96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71225-A6F5-46D2-ADF5-015EE940E82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DB113-83C8-4DA8-ACD8-2FAF84EC79A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E97AF-AAD2-42A5-8A82-28B290E9DB6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2B8C6-CFED-4EC7-9298-84E1D65EA8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24AFE-680E-41A6-8F48-0CCB30911A0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08B87-1043-44B6-AEB8-F14EB1B832E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BDCBE-8BC8-473B-9B29-6A8C0398FA2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A35AA0-5746-49E5-B705-DB7AD490A8A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F35A19-EE29-4FDC-A49D-5C301CEE02F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51AFAB-21BC-442C-95C5-44D282C3C45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55A75B-4BCB-467C-BE0E-EE53297933D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9F753A-03F3-4035-B28C-BE56A6BC7C1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4FFD51-483D-44BD-B2F0-30EC4E59E34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C6DFEA-CD92-4888-BD47-2C6F3F83D4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8AD50F-774F-4CAA-B313-50E6140EF82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ED8704-4D6A-456F-B188-5C57C3EF65E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98B3BC-D567-42E5-B47F-8FCF77400C7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96822E-ECE9-47CD-852B-BB896E6735A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F81DF6-5C6B-407B-8B37-E80ADB267D9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BEDCE0-C0AD-4323-8082-29BD009F0EC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956541-4314-43CC-80A1-DBD31BC1BB9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04E89B-F5B2-4752-B40A-F2E8DE70A0B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D36D00-AF97-4105-8D69-71192619C9C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0B23AF-D5F2-4B58-BF47-AC84D444F0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00A0F4-E304-4DE1-972D-52A6C363538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9DDC5E-FBDC-4046-B76B-5E16C979B52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90E056-7B24-4E2D-A973-44AE2D30DAA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78B988-FE0D-480E-8F71-ED71B82C2BA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864D44-C618-46E9-989C-FC8427C4B41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62D192-654D-4AAD-9E69-8BBB35FDE3F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2EFD60-0E4B-49ED-96DD-6DD8F89B3B4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11A23-5CCD-4A25-9A8E-BB2BF76EE7B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42C2C-77DB-4E12-ADA8-B050AA7E9A5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90253-9376-40A4-A601-115F562B1B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32B30-BE65-43E3-BCBB-94AFDB13D32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B899F-C362-483E-AD8D-8BE80204225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5C96E-E291-4A90-8A09-3EDF2BAF9A0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A0C10-8D12-403A-BD38-F620E6B86ED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68324-AA43-4504-AE16-58BDC8DAF13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0EF11-4B29-4BFB-A8EC-A119C4EF735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D7052-D3A8-40DA-B939-1E4BAD74E9C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B51E9-AB19-4614-AC20-216FD3CDEA9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01E30-833B-465F-8860-555087E60AAD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0F101C-2E35-40C4-9703-3C41763C7E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629B0A-58A2-4392-81AF-35FC5E0E4B6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A6BE3C-DAC1-4878-9A93-9E56DB2CBBC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5944FE-B1CE-45A2-9CB8-1CAD0241A1B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D125DE-D111-4B97-8E88-C6703154D51A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BF5302-C6D9-4E3D-9336-555F1CF2E3DF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5DAC70-B375-4BC9-BAF1-D305EFBE9D0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B0224D-AD7F-4929-93F2-B5999AD595A4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C09B73-E8E4-446C-B37B-22D7C28005AA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0CE60B-54BB-47BA-9218-F62CEC320B9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D6DA1C-2B28-4178-9EDB-1F0392B544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B45BB1-97E7-4711-864B-F8439A042D21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D77D1C-A425-44D8-B73B-8A31BC01D64A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A1D451-969E-458A-A986-BBD7D08F6AD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2A444E-CE2A-4D40-97B9-29315A9C782E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648696-33B7-432E-91AF-45B3ED60A71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A11540-2423-4C3D-875B-0B8D6AB99AE3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EA7764-C54C-4719-8AEE-3C960847152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097972-C47D-4258-8BA4-4655019F1661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332C3F-FE10-4907-AA21-2CC49FD6FC06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F7705D-4403-4B97-900D-EADE6DA5BC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2CE978-8925-45FB-AD5A-EB5640F9A0C5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1E2CBE-09FF-4406-8824-D6A6337623C7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A01C51-F110-4816-A7F0-835CB78664C9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5BEF-59E0-4819-A9B9-108E3145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2C885F-DA04-4470-9E74-090A5768FBF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9A7BB-75A9-440E-8C15-AC143E9CED5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FA274-2D37-47D2-9A0C-FE63179B68D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F43A61-0B5A-49FC-948E-E975166E2DC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0ADB7-327D-44CA-B446-3DC833C4F8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C7D3-C3B1-4F7A-A937-BCBFCA34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C9E50E-272B-465C-9854-C63288BA731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0557F-196C-48F0-8522-037A30BD121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AF4E3-0450-40C6-8778-9FBE768BC9C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07C81C-1C0C-47FD-AB33-46D4C13CA12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A7F388-6259-4A17-9A50-45FA6445CAB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6D88F-2DAC-412D-9BC0-328310A112C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84219-E861-4DE2-808A-A954C3DCB51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FD4B8-99CF-492A-AA7B-832D717F087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2F751-3936-4DF3-BD90-F3F214B8DA3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ECAA8-A5F6-42B8-A990-EE0FE595F0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4C96-AE5E-4A0D-B8C6-F7C66658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65EE3-CCF1-42C8-8CE7-D9687E0BBCC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F3780-4C61-41D8-BE73-692BC9BB835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C9100-0A60-4D24-A5A1-B225505649F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4A5C4-C44F-43D9-91BA-49FEE5D3A23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0ECAF-2D14-4364-A66F-4FD9CA6464A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43F8E-5B6E-4C1C-9745-FBF595BBDF4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FEFA5-0601-4816-B32E-5481A9DE1DB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FD855-835C-4BE4-BF50-080FE412182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9B983-9564-4220-8788-11FBF5F597A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7F52-A485-423E-AFC2-11BCA65FC6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739D-985A-4A7B-9D0D-30739CAF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49AA-06D0-4208-BBAE-5BDB6851017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F7E8-A7B3-4151-9AD0-608E5E668B8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2193-79F3-421A-ADA9-F041083CA35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8D6A-8232-4FB1-90DD-C90A163DBCA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C52F-CC17-4012-885D-BFDF441FFCE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BF06-1350-42F9-BDFC-980EAE79109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0D3F-5E8F-4635-B888-29F531D284F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6DF3-E239-49FC-9326-BBA2BCF1EEF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A040-6B83-4C29-981D-10814AE1A10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EF06-97B8-4864-AAE9-630019CA3E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E752-48C1-4FE1-AC20-15443FE8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A049-7B7E-4D7D-A12E-18B95E4E674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200FCB-974C-4829-84C2-D074F0E6864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18C712-886E-46FF-8A0B-3A887B544C6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B25649-6CC2-46F2-B964-7A5A5AB6201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580512-D23B-4A0D-8FFD-4FEF819B38D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8B580F-9C34-452A-BE64-5268019BFC4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BCC075-3A59-45DA-AFB1-039D08CE5EF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A09926-71F6-468D-9F7C-52BDF334805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D16C41-CBB2-42D7-A44F-B63A44D3D88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44214C-D6A2-41B0-A5C1-59816ADD32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C42B-F57C-41CC-99EA-3BAE530C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953E01-F59C-44E9-8CEF-73DF997EDA0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F91CB0-535F-40CC-A0AD-5956FC71185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3964B3-4973-4063-9418-053F1FB9AC6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A071DB-FB72-46B2-BEB8-E22FBA12DCF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9608A5-35C2-47AF-B275-94618181072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A0F288-5F23-4107-B857-E8653709B0F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891FBD-0A87-4104-82FF-D26D1F5A790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F47864-FCE3-43FE-BBBD-5F73600BB0B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EE522E-8EA7-460A-B0AA-8B738433616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6578BB-06A3-458A-B880-A6B4D9F3F1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23BB-5CF0-48EF-9C3E-B19D689A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0B6233-2088-4EBE-B491-ADEC1A68A9E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428D54-39C7-4D0C-BF34-0253B4F67CC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013C42-8CD3-46C6-B66E-765F24EFE78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C71241-895C-45E9-9358-BE78EB61D2B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477688-73D5-4929-9B36-CA2558A3787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9D95B-AD5A-4178-8597-9F982E52891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92F0F-5532-44A3-87C9-CEFD31CF82E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BB17A-CBF7-4774-B309-B0A6823BCC0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7B4F8-5CFF-4250-B38F-A259BD548C3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7F439-FE80-4776-96C8-FC66E1C13E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3328-E15E-43B7-AA8D-AEAFE32A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F185F-4C7C-4A0F-B72C-96851C96C77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715C9-6DA7-49EA-9812-110AB71A202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5A8AC-CFCB-4541-AE2D-5558A4DD46D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A8BF2-31BE-473F-B376-88EA5974B00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749E0-5F84-4985-9927-088A67B9AF1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77293-73F2-442B-A948-0E3A9515A61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1C3A5-B2EC-45CA-A76D-9DFD59A4799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C8732B-0E3C-44CC-96ED-242225D5512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68D267-BC2C-4EB9-8FF6-968C735C022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BA10C8-5211-4046-9306-BB8D45E1DE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1B6582E-84BD-408D-9629-0155AECE8D4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BEC7EA3-28F3-4F46-B20D-391BA147AC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653E335-18FD-4B2C-B3A6-CED95A88B9D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9884054-3347-4407-A4B7-E1D63E0C148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6477CDB-284D-4885-BA23-716E32330FE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8404F6C-1E9C-4658-9265-57E529FA5CD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9EAD61F-F3B2-426A-9A13-816508EAE72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835C467-FDF6-411A-B333-5DD58615F2E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E77A70A-9092-4156-A8DA-33A180C018F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E4A50A6-67D1-4F26-93A4-D22812F5C55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6FDED57-6127-41E4-9F2B-51E43A4BFE9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F382C01-DA60-4AF6-9B6B-10B363EEBFD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F613829-F369-4B0C-90DC-BCB9C911AEA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EE470BC-760B-4D84-B854-FB7E0D2D329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8117245-EDEC-4A2E-89CE-11134B7C47E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4622AD1-7F39-445C-9B85-84BC4DD3831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1416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sagatavošanas seminārs </a:t>
            </a:r>
            <a:br>
              <a:rPr sz="2800"/>
            </a:b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30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šu pieteikumu sagatavošana un iesniegšana Espresso sistēm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238480" y="4300560"/>
            <a:ext cx="5829120" cy="666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2024.gada 5. septembrī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42" name="Text Placeholder 3"/>
          <p:cNvSpPr/>
          <p:nvPr/>
        </p:nvSpPr>
        <p:spPr>
          <a:xfrm flipV="1" rot="10800000">
            <a:off x="3795840" y="5178600"/>
            <a:ext cx="48686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VIAA Izglītības atbalsta un starptautiskās sadarbības departamenta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EC86FBB-1AD1-4D44-9A58-9D84DC185E1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0b050"/>
                </a:solidFill>
                <a:latin typeface="Verdana"/>
                <a:ea typeface="Verdana"/>
              </a:rPr>
              <a:t>Par studiju vizītēm – jaunu projektu veidu Nordplus Jauniešu apakšprogrammā -  atsevišķs seminārs 06.09.24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extBox 10"/>
          <p:cNvSpPr/>
          <p:nvPr/>
        </p:nvSpPr>
        <p:spPr>
          <a:xfrm>
            <a:off x="250920" y="3706920"/>
            <a:ext cx="346536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Calibri"/>
              </a:rPr>
              <a:t>https://www.viaa.gov.lv/lv/jaunums/aicinam-pieteikties-tiessaistes-seminaram-par-nordplus-2024-gada-studiju-vizisu-konkursu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Picture 2" descr=""/>
          <p:cNvPicPr/>
          <p:nvPr/>
        </p:nvPicPr>
        <p:blipFill>
          <a:blip r:embed="rId1"/>
          <a:stretch/>
        </p:blipFill>
        <p:spPr>
          <a:xfrm>
            <a:off x="4098960" y="2019240"/>
            <a:ext cx="443556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4" descr=""/>
          <p:cNvPicPr/>
          <p:nvPr/>
        </p:nvPicPr>
        <p:blipFill>
          <a:blip r:embed="rId1"/>
          <a:stretch/>
        </p:blipFill>
        <p:spPr>
          <a:xfrm>
            <a:off x="3179880" y="1238400"/>
            <a:ext cx="5816520" cy="5238720"/>
          </a:xfrm>
          <a:prstGeom prst="rect">
            <a:avLst/>
          </a:prstGeom>
          <a:ln w="0">
            <a:noFill/>
          </a:ln>
        </p:spPr>
      </p:pic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2768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epieciešams ievadīt informāciju par savu un partneru organizāciju 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ordplus datubāzē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(ja tās vēl nav reģistrētas datu bāzē!)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bām organizācijām sistēma ģenerē 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pliecinājuma vēstules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, kuras jāparaksta visu projektā iesaisīto organizāciju/iestāžu paraksttiesīgajām personām, jāieskanē un jāpievieno pieteikumam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012E338-2B52-45F4-A7D6-2E752899A41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1" name="Straight Arrow Connector 8"/>
          <p:cNvCxnSpPr/>
          <p:nvPr/>
        </p:nvCxnSpPr>
        <p:spPr>
          <a:xfrm flipV="1">
            <a:off x="3098520" y="2082960"/>
            <a:ext cx="1600920" cy="336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82" name="Straight Arrow Connector 10"/>
          <p:cNvCxnSpPr/>
          <p:nvPr/>
        </p:nvCxnSpPr>
        <p:spPr>
          <a:xfrm flipV="1">
            <a:off x="3098520" y="2082600"/>
            <a:ext cx="3005640" cy="673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83" name="Straight Arrow Connector 12"/>
          <p:cNvCxnSpPr/>
          <p:nvPr/>
        </p:nvCxnSpPr>
        <p:spPr>
          <a:xfrm flipV="1">
            <a:off x="2819160" y="2082240"/>
            <a:ext cx="4966200" cy="16038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784" name="Title 1"/>
          <p:cNvSpPr/>
          <p:nvPr/>
        </p:nvSpPr>
        <p:spPr>
          <a:xfrm>
            <a:off x="2590920" y="196920"/>
            <a:ext cx="60958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b7d91"/>
                </a:solidFill>
                <a:latin typeface="Verdana"/>
                <a:ea typeface="Verdana"/>
              </a:rPr>
              <a:t>Projektā iesaistītās organizācijas – koordinators un partne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Picture 4" descr=""/>
          <p:cNvPicPr/>
          <p:nvPr/>
        </p:nvPicPr>
        <p:blipFill>
          <a:blip r:embed="rId1"/>
          <a:stretch/>
        </p:blipFill>
        <p:spPr>
          <a:xfrm>
            <a:off x="4673520" y="3238560"/>
            <a:ext cx="3152880" cy="320364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2" descr=""/>
          <p:cNvPicPr/>
          <p:nvPr/>
        </p:nvPicPr>
        <p:blipFill>
          <a:blip r:embed="rId2"/>
          <a:stretch/>
        </p:blipFill>
        <p:spPr>
          <a:xfrm>
            <a:off x="3878280" y="-214200"/>
            <a:ext cx="5478480" cy="3171600"/>
          </a:xfrm>
          <a:prstGeom prst="rect">
            <a:avLst/>
          </a:prstGeom>
          <a:ln w="0">
            <a:noFill/>
          </a:ln>
        </p:spPr>
      </p:pic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3479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-17280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oteikti jāpārliecinās, vai partneru organizācija jau iepriekš nav reģistrēta Espresso sistēmā, ja nav, tad jāpievieno.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ngļu valodā jāizmanto tāds partneru organizācijas nosaukums, kādu organizācija lieto pati. 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Straight Arrow Connector 9"/>
          <p:cNvCxnSpPr/>
          <p:nvPr/>
        </p:nvCxnSpPr>
        <p:spPr>
          <a:xfrm flipV="1">
            <a:off x="2850840" y="1166400"/>
            <a:ext cx="4537800" cy="7689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789" name="Left Arrow 13"/>
          <p:cNvSpPr/>
          <p:nvPr/>
        </p:nvSpPr>
        <p:spPr>
          <a:xfrm rot="16200000">
            <a:off x="5375160" y="2305080"/>
            <a:ext cx="1666800" cy="355320"/>
          </a:xfrm>
          <a:prstGeom prst="leftArrow">
            <a:avLst>
              <a:gd name="adj1" fmla="val 50000"/>
              <a:gd name="adj2" fmla="val 54533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Picture 6" descr=""/>
          <p:cNvPicPr/>
          <p:nvPr/>
        </p:nvPicPr>
        <p:blipFill>
          <a:blip r:embed="rId1"/>
          <a:srcRect l="0" t="0" r="4749" b="0"/>
          <a:stretch/>
        </p:blipFill>
        <p:spPr>
          <a:xfrm>
            <a:off x="611280" y="3151080"/>
            <a:ext cx="8172360" cy="2533680"/>
          </a:xfrm>
          <a:prstGeom prst="rect">
            <a:avLst/>
          </a:prstGeom>
          <a:ln w="0">
            <a:noFill/>
          </a:ln>
        </p:spPr>
      </p:pic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2590560" y="196920"/>
            <a:ext cx="6095880" cy="776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Sagatavošanas vizītes apraks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itle 1"/>
          <p:cNvSpPr/>
          <p:nvPr/>
        </p:nvSpPr>
        <p:spPr>
          <a:xfrm>
            <a:off x="1128600" y="1914480"/>
            <a:ext cx="704232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Rokasgrāmata, 41. lpp (pdf),  sadaļa  «The Application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Picture 2" descr=""/>
          <p:cNvPicPr/>
          <p:nvPr/>
        </p:nvPicPr>
        <p:blipFill>
          <a:blip r:embed="rId1"/>
          <a:srcRect l="0" t="6166" r="0" b="0"/>
          <a:stretch/>
        </p:blipFill>
        <p:spPr>
          <a:xfrm>
            <a:off x="3218040" y="1709640"/>
            <a:ext cx="5759280" cy="4214880"/>
          </a:xfrm>
          <a:prstGeom prst="rect">
            <a:avLst/>
          </a:prstGeom>
          <a:ln w="0">
            <a:noFill/>
          </a:ln>
        </p:spPr>
      </p:pic>
      <p:sp>
        <p:nvSpPr>
          <p:cNvPr id="79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054A844-8051-4044-8B4E-67817A8E0DB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itle 1"/>
          <p:cNvSpPr/>
          <p:nvPr/>
        </p:nvSpPr>
        <p:spPr>
          <a:xfrm>
            <a:off x="0" y="1943280"/>
            <a:ext cx="223200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Īsi jāapraksta </a:t>
            </a:r>
            <a:r>
              <a:rPr b="1" lang="lv-LV" sz="1700" spc="-1" strike="noStrike">
                <a:solidFill>
                  <a:srgbClr val="002060"/>
                </a:solidFill>
                <a:latin typeface="Verdana"/>
              </a:rPr>
              <a:t>paredzamā  projekta iecer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Aprakstiem jābūt koncentrētiem -  un vienlaikus tiem jāsniedz skaidrs priekšstats gan par projekta ieceri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6" name="Straight Arrow Connector 12"/>
          <p:cNvCxnSpPr/>
          <p:nvPr/>
        </p:nvCxnSpPr>
        <p:spPr>
          <a:xfrm>
            <a:off x="1958760" y="2209320"/>
            <a:ext cx="3182040" cy="12358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7" descr=""/>
          <p:cNvPicPr/>
          <p:nvPr/>
        </p:nvPicPr>
        <p:blipFill>
          <a:blip r:embed="rId1"/>
          <a:srcRect l="0" t="6263" r="0" b="0"/>
          <a:stretch/>
        </p:blipFill>
        <p:spPr>
          <a:xfrm>
            <a:off x="3405240" y="933480"/>
            <a:ext cx="4903560" cy="4375080"/>
          </a:xfrm>
          <a:prstGeom prst="rect">
            <a:avLst/>
          </a:prstGeom>
          <a:ln w="0">
            <a:noFill/>
          </a:ln>
        </p:spPr>
      </p:pic>
      <p:sp>
        <p:nvSpPr>
          <p:cNvPr id="798" name="Title 1"/>
          <p:cNvSpPr/>
          <p:nvPr/>
        </p:nvSpPr>
        <p:spPr>
          <a:xfrm>
            <a:off x="0" y="1943280"/>
            <a:ext cx="2849400" cy="32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Jāapraksta </a:t>
            </a:r>
            <a:r>
              <a:rPr b="1" lang="lv-LV" sz="1800" spc="-1" strike="noStrike">
                <a:solidFill>
                  <a:srgbClr val="002060"/>
                </a:solidFill>
                <a:latin typeface="Verdana"/>
              </a:rPr>
              <a:t>vizītes darba kārtī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2060"/>
                </a:solidFill>
                <a:latin typeface="Verdana"/>
              </a:rPr>
              <a:t>Vizītes darba kārtībai jābalstās uz projekta pieteikuma plānošanu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(mērķi, uzdevumi, rezultāti, norise…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Picture 2" descr=""/>
          <p:cNvPicPr/>
          <p:nvPr/>
        </p:nvPicPr>
        <p:blipFill>
          <a:blip r:embed="rId1"/>
          <a:srcRect l="0" t="8694" r="0" b="0"/>
          <a:stretch/>
        </p:blipFill>
        <p:spPr>
          <a:xfrm>
            <a:off x="3948120" y="549360"/>
            <a:ext cx="4456080" cy="3079800"/>
          </a:xfrm>
          <a:prstGeom prst="rect">
            <a:avLst/>
          </a:prstGeom>
          <a:ln w="0">
            <a:noFill/>
          </a:ln>
        </p:spPr>
      </p:pic>
      <p:sp>
        <p:nvSpPr>
          <p:cNvPr id="800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42EC71E-8753-4504-B8D9-4586E594E49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1" name="Straight Arrow Connector 9"/>
          <p:cNvCxnSpPr/>
          <p:nvPr/>
        </p:nvCxnSpPr>
        <p:spPr>
          <a:xfrm flipH="1">
            <a:off x="4258800" y="2095200"/>
            <a:ext cx="16560" cy="2265840"/>
          </a:xfrm>
          <a:prstGeom prst="straightConnector1">
            <a:avLst/>
          </a:prstGeom>
          <a:ln w="38160">
            <a:solidFill>
              <a:srgbClr val="c0504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2" name="Title 1"/>
          <p:cNvSpPr/>
          <p:nvPr/>
        </p:nvSpPr>
        <p:spPr>
          <a:xfrm>
            <a:off x="0" y="1943280"/>
            <a:ext cx="308628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Jāieraksta dati – apmeklējamā valsts,  braucēju skaits (maks.2 personas)  un brauciena ilgums (maks. 5 dienas, ieskaitot ceļ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3" name="Picture 8" descr=""/>
          <p:cNvPicPr/>
          <p:nvPr/>
        </p:nvPicPr>
        <p:blipFill>
          <a:blip r:embed="rId2"/>
          <a:stretch/>
        </p:blipFill>
        <p:spPr>
          <a:xfrm>
            <a:off x="3208320" y="4361040"/>
            <a:ext cx="38289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4" descr=""/>
          <p:cNvPicPr/>
          <p:nvPr/>
        </p:nvPicPr>
        <p:blipFill>
          <a:blip r:embed="rId1"/>
          <a:srcRect l="0" t="0" r="0" b="76419"/>
          <a:stretch/>
        </p:blipFill>
        <p:spPr>
          <a:xfrm>
            <a:off x="4597560" y="4807080"/>
            <a:ext cx="3828960" cy="720720"/>
          </a:xfrm>
          <a:prstGeom prst="rect">
            <a:avLst/>
          </a:prstGeom>
          <a:ln w="0">
            <a:noFill/>
          </a:ln>
        </p:spPr>
      </p:pic>
      <p:sp>
        <p:nvSpPr>
          <p:cNvPr id="805" name="Title 1"/>
          <p:cNvSpPr/>
          <p:nvPr/>
        </p:nvSpPr>
        <p:spPr>
          <a:xfrm>
            <a:off x="0" y="1943280"/>
            <a:ext cx="22320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eprasīto budžetu sistēma aprēķina automātisk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itle 1"/>
          <p:cNvSpPr/>
          <p:nvPr/>
        </p:nvSpPr>
        <p:spPr>
          <a:xfrm>
            <a:off x="100080" y="4184640"/>
            <a:ext cx="344808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Obligāti jāpievieno partneru apliecinājuma vēstules (tai skaitā arī no savas organizācijas)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7" name="Straight Arrow Connector 6"/>
          <p:cNvCxnSpPr/>
          <p:nvPr/>
        </p:nvCxnSpPr>
        <p:spPr>
          <a:xfrm>
            <a:off x="2827440" y="4327200"/>
            <a:ext cx="1745280" cy="6260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808" name="Picture 2" descr=""/>
          <p:cNvPicPr/>
          <p:nvPr/>
        </p:nvPicPr>
        <p:blipFill>
          <a:blip r:embed="rId2"/>
          <a:srcRect l="0" t="15722" r="0" b="0"/>
          <a:stretch/>
        </p:blipFill>
        <p:spPr>
          <a:xfrm>
            <a:off x="2749680" y="2050920"/>
            <a:ext cx="567684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itle 1"/>
          <p:cNvSpPr/>
          <p:nvPr/>
        </p:nvSpPr>
        <p:spPr>
          <a:xfrm>
            <a:off x="0" y="1943280"/>
            <a:ext cx="2476440" cy="42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Iespēja aplūkot/lejuplādēt projekta pieteikum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Verdana"/>
              </a:rPr>
              <a:t>Atgādinājums par   prasībām, kuras neievērojot, pieteikums netiks izskatīts</a:t>
            </a: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(vismaz 2 organizācijas no 2 dažādām valstīm; apliecinājuma vēstules no katras iesaistītās organizācija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0" name="Straight Arrow Connector 8"/>
          <p:cNvCxnSpPr/>
          <p:nvPr/>
        </p:nvCxnSpPr>
        <p:spPr>
          <a:xfrm>
            <a:off x="1714320" y="2827440"/>
            <a:ext cx="1410120" cy="10166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11" name="Straight Arrow Connector 11"/>
          <p:cNvCxnSpPr/>
          <p:nvPr/>
        </p:nvCxnSpPr>
        <p:spPr>
          <a:xfrm>
            <a:off x="2095200" y="5024160"/>
            <a:ext cx="76284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812" name="Picture 2" descr=""/>
          <p:cNvPicPr/>
          <p:nvPr/>
        </p:nvPicPr>
        <p:blipFill>
          <a:blip r:embed="rId1"/>
          <a:srcRect l="0" t="9362" r="0" b="0"/>
          <a:stretch/>
        </p:blipFill>
        <p:spPr>
          <a:xfrm>
            <a:off x="3124080" y="2827440"/>
            <a:ext cx="5639040" cy="28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1E71468-B4C3-48B0-9141-70C494F11E6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itle 1"/>
          <p:cNvSpPr/>
          <p:nvPr/>
        </p:nvSpPr>
        <p:spPr>
          <a:xfrm>
            <a:off x="0" y="1943280"/>
            <a:ext cx="233208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! Ja sagatavošanas vizītes pieteikums tiks atbalstīts, šie bankas rekvizīti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tiks ietverti līgumā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un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uz norādīto kontu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tiks pārskaitīts piešķirtais finansējums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Pie bankas rekvizītiem – «Your reference» ir organizācijas iekšējais identifikators (ja tāds ir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Picture 1" descr=""/>
          <p:cNvPicPr/>
          <p:nvPr/>
        </p:nvPicPr>
        <p:blipFill>
          <a:blip r:embed="rId1"/>
          <a:stretch/>
        </p:blipFill>
        <p:spPr>
          <a:xfrm>
            <a:off x="2604960" y="895320"/>
            <a:ext cx="5762880" cy="5429160"/>
          </a:xfrm>
          <a:prstGeom prst="rect">
            <a:avLst/>
          </a:prstGeom>
          <a:ln w="0">
            <a:noFill/>
          </a:ln>
        </p:spPr>
      </p:pic>
      <p:cxnSp>
        <p:nvCxnSpPr>
          <p:cNvPr id="816" name="Straight Arrow Connector 2"/>
          <p:cNvCxnSpPr/>
          <p:nvPr/>
        </p:nvCxnSpPr>
        <p:spPr>
          <a:xfrm>
            <a:off x="2158560" y="4808160"/>
            <a:ext cx="57708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am ir jābūt zināmam  sagatavošanas vizītes pieteikuma iesniegšanas brīdī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2012760" y="1775880"/>
            <a:ext cx="6870600" cy="4316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Kādā apakšprogrammā (</a:t>
            </a:r>
            <a:r>
              <a:rPr b="0" i="1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Junior, Adult, Nordic Languages</a:t>
            </a: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) paredzēts iesniegt projekt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Kas būs projekta partneri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Projekta ideja – ko un kāpēc plānots darīt, kādi būs iespējamie rezultāti un ietek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s paredzamā darba kārtīb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Title 1"/>
          <p:cNvSpPr/>
          <p:nvPr/>
        </p:nvSpPr>
        <p:spPr>
          <a:xfrm>
            <a:off x="106200" y="2120760"/>
            <a:ext cx="2476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rms iesniegšanas sistēma pārbauda, vai ir aizpildītas visas pieteikuma sadaļas un nepieļauj iesniegt daļēji aizpildītu pieteikum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8" name="Picture 2" descr=""/>
          <p:cNvPicPr/>
          <p:nvPr/>
        </p:nvPicPr>
        <p:blipFill>
          <a:blip r:embed="rId1"/>
          <a:stretch/>
        </p:blipFill>
        <p:spPr>
          <a:xfrm>
            <a:off x="2789280" y="1290600"/>
            <a:ext cx="604512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 txBox="1"/>
          <p:nvPr/>
        </p:nvSpPr>
        <p:spPr>
          <a:xfrm>
            <a:off x="1587240" y="104940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Jautājumu gadījumā lūdzu sazinā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frank.krohn@hkdir.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ff0000"/>
                </a:solidFill>
                <a:latin typeface="Calibri"/>
                <a:ea typeface="Verdana"/>
              </a:rPr>
              <a:t>VIAA sagatavotajiem materiāliem ir </a:t>
            </a:r>
            <a:r>
              <a:rPr b="1" lang="lv-LV" sz="2000" spc="-1" strike="noStrike" u="sng">
                <a:solidFill>
                  <a:srgbClr val="ff0000"/>
                </a:solidFill>
                <a:uFillTx/>
                <a:latin typeface="Calibri"/>
                <a:ea typeface="Verdana"/>
              </a:rPr>
              <a:t>informatīvs un paskaidrojošs raksturs</a:t>
            </a:r>
            <a:r>
              <a:rPr b="1" lang="lv-LV" sz="2000" spc="-1" strike="noStrike">
                <a:solidFill>
                  <a:srgbClr val="ff0000"/>
                </a:solidFill>
                <a:latin typeface="Calibri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rojektu pieteicējiem ir saistoši dokumenti, kas publicēti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www.nordplusonlin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Vispārīgā informā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7" name="Content Placeholder 1" descr=""/>
          <p:cNvPicPr/>
          <p:nvPr/>
        </p:nvPicPr>
        <p:blipFill>
          <a:blip r:embed="rId1"/>
          <a:stretch/>
        </p:blipFill>
        <p:spPr>
          <a:xfrm>
            <a:off x="2901960" y="1695600"/>
            <a:ext cx="5907240" cy="407196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2" descr=""/>
          <p:cNvPicPr/>
          <p:nvPr/>
        </p:nvPicPr>
        <p:blipFill>
          <a:blip r:embed="rId2"/>
          <a:stretch/>
        </p:blipFill>
        <p:spPr>
          <a:xfrm>
            <a:off x="5924520" y="3772080"/>
            <a:ext cx="3156120" cy="957240"/>
          </a:xfrm>
          <a:prstGeom prst="rect">
            <a:avLst/>
          </a:prstGeom>
          <a:ln w="0">
            <a:noFill/>
          </a:ln>
        </p:spPr>
      </p:pic>
      <p:sp>
        <p:nvSpPr>
          <p:cNvPr id="749" name="Title 1"/>
          <p:cNvSpPr/>
          <p:nvPr/>
        </p:nvSpPr>
        <p:spPr>
          <a:xfrm>
            <a:off x="-165240" y="2860560"/>
            <a:ext cx="301644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Iesniegums jāsagatavo un jāiesniedz tiešsaistē,   aizpildot elektronisko pieteikuma veidlap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1828800" y="1252440"/>
            <a:ext cx="722304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2500" spc="-1" strike="noStrike">
                <a:solidFill>
                  <a:srgbClr val="000000"/>
                </a:solidFill>
                <a:latin typeface="Verdana"/>
                <a:ea typeface="Verdana"/>
              </a:rPr>
              <a:t>https://espresso.diku.no/espresso/login?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2" name="Picture 2" descr=""/>
          <p:cNvPicPr/>
          <p:nvPr/>
        </p:nvPicPr>
        <p:blipFill>
          <a:blip r:embed="rId1"/>
          <a:srcRect l="0" t="26520" r="0" b="0"/>
          <a:stretch/>
        </p:blipFill>
        <p:spPr>
          <a:xfrm>
            <a:off x="2490840" y="3040200"/>
            <a:ext cx="5838840" cy="2436840"/>
          </a:xfrm>
          <a:prstGeom prst="rect">
            <a:avLst/>
          </a:prstGeom>
          <a:ln w="0">
            <a:noFill/>
          </a:ln>
        </p:spPr>
      </p:pic>
      <p:sp>
        <p:nvSpPr>
          <p:cNvPr id="753" name="Left Arrow 6"/>
          <p:cNvSpPr/>
          <p:nvPr/>
        </p:nvSpPr>
        <p:spPr>
          <a:xfrm rot="1692600">
            <a:off x="7089480" y="4576320"/>
            <a:ext cx="1720800" cy="552600"/>
          </a:xfrm>
          <a:prstGeom prst="leftArrow">
            <a:avLst>
              <a:gd name="adj1" fmla="val 50000"/>
              <a:gd name="adj2" fmla="val 5448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2012760" y="1393560"/>
            <a:ext cx="6870600" cy="742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3200" spc="-1" strike="noStrike">
                <a:solidFill>
                  <a:srgbClr val="1f4e79"/>
                </a:solidFill>
                <a:latin typeface="Calibri"/>
                <a:ea typeface="Verdana"/>
              </a:rPr>
              <a:t>https://espresso.dik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6" name="Picture 1" descr=""/>
          <p:cNvPicPr/>
          <p:nvPr/>
        </p:nvPicPr>
        <p:blipFill>
          <a:blip r:embed="rId1"/>
          <a:srcRect l="0" t="24891" r="0" b="0"/>
          <a:stretch/>
        </p:blipFill>
        <p:spPr>
          <a:xfrm>
            <a:off x="4025880" y="4721400"/>
            <a:ext cx="4660920" cy="20412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"/>
          <p:cNvPicPr/>
          <p:nvPr/>
        </p:nvPicPr>
        <p:blipFill>
          <a:blip r:embed="rId2"/>
          <a:stretch/>
        </p:blipFill>
        <p:spPr>
          <a:xfrm>
            <a:off x="2660760" y="2238480"/>
            <a:ext cx="4916520" cy="2036520"/>
          </a:xfrm>
          <a:prstGeom prst="rect">
            <a:avLst/>
          </a:prstGeom>
          <a:ln w="0">
            <a:noFill/>
          </a:ln>
        </p:spPr>
      </p:pic>
      <p:cxnSp>
        <p:nvCxnSpPr>
          <p:cNvPr id="758" name="Straight Arrow Connector 4"/>
          <p:cNvCxnSpPr/>
          <p:nvPr/>
        </p:nvCxnSpPr>
        <p:spPr>
          <a:xfrm>
            <a:off x="5638320" y="3633840"/>
            <a:ext cx="1080" cy="127080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Picture 2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267440"/>
          </a:xfrm>
          <a:prstGeom prst="rect">
            <a:avLst/>
          </a:prstGeom>
          <a:ln w="0">
            <a:noFill/>
          </a:ln>
        </p:spPr>
      </p:pic>
      <p:sp>
        <p:nvSpPr>
          <p:cNvPr id="761" name="Left Arrow 6"/>
          <p:cNvSpPr/>
          <p:nvPr/>
        </p:nvSpPr>
        <p:spPr>
          <a:xfrm rot="8365800">
            <a:off x="2230200" y="5498640"/>
            <a:ext cx="3019320" cy="530280"/>
          </a:xfrm>
          <a:prstGeom prst="leftArrow">
            <a:avLst>
              <a:gd name="adj1" fmla="val 50000"/>
              <a:gd name="adj2" fmla="val 54434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091960" y="415440"/>
            <a:ext cx="6095880" cy="776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Izvēlamies apakšprogrammu, kurā iesniegsim sagatavošanas vizītes pieteikumu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4" name="Picture 2" descr=""/>
          <p:cNvPicPr/>
          <p:nvPr/>
        </p:nvPicPr>
        <p:blipFill>
          <a:blip r:embed="rId2"/>
          <a:stretch/>
        </p:blipFill>
        <p:spPr>
          <a:xfrm>
            <a:off x="1541520" y="1824120"/>
            <a:ext cx="7197840" cy="39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B2A8889-1CAE-4874-B96D-8A2DF2AFB94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-360" y="1942920"/>
            <a:ext cx="2590920" cy="228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esniegums jāsagatavo un jāiesniedz tiešsaistē,   aizpildot elektronisko pieteikuma veidlapu.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7" name="Picture 2" descr=""/>
          <p:cNvPicPr/>
          <p:nvPr/>
        </p:nvPicPr>
        <p:blipFill>
          <a:blip r:embed="rId1"/>
          <a:stretch/>
        </p:blipFill>
        <p:spPr>
          <a:xfrm>
            <a:off x="2478240" y="426960"/>
            <a:ext cx="6183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8A1CA69-4963-4DF8-9A43-324F08D05C5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-360" y="1942920"/>
            <a:ext cx="2801880" cy="1485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zvēlamies projekta veidu – šajā gadījumā – 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sagatavošanas vizīti («Preparatory visit») .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0" name="Picture 7" descr="A screenshot of a computer&#10;&#10;Description automatically generated"/>
          <p:cNvPicPr/>
          <p:nvPr/>
        </p:nvPicPr>
        <p:blipFill>
          <a:blip r:embed="rId1"/>
          <a:srcRect l="8189" t="15003" r="56997" b="25478"/>
          <a:stretch/>
        </p:blipFill>
        <p:spPr>
          <a:xfrm>
            <a:off x="3143160" y="228600"/>
            <a:ext cx="5391360" cy="5761080"/>
          </a:xfrm>
          <a:prstGeom prst="rect">
            <a:avLst/>
          </a:prstGeom>
          <a:ln w="0">
            <a:noFill/>
          </a:ln>
        </p:spPr>
      </p:pic>
      <p:cxnSp>
        <p:nvCxnSpPr>
          <p:cNvPr id="771" name="Straight Arrow Connector 9"/>
          <p:cNvCxnSpPr/>
          <p:nvPr/>
        </p:nvCxnSpPr>
        <p:spPr>
          <a:xfrm>
            <a:off x="2090520" y="3230640"/>
            <a:ext cx="1532520" cy="169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772" name="Title 1"/>
          <p:cNvSpPr/>
          <p:nvPr/>
        </p:nvSpPr>
        <p:spPr>
          <a:xfrm>
            <a:off x="54000" y="4772160"/>
            <a:ext cx="203688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 algn="ctr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!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 Studiju vizīte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r </a:t>
            </a: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cits projektu veids (seminārs 06.09.24.)</a:t>
            </a:r>
            <a:br>
              <a:rPr sz="1600"/>
            </a:br>
            <a:r>
              <a:rPr b="0" lang="lv-LV" sz="1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3" name="Straight Arrow Connector 12"/>
          <p:cNvCxnSpPr/>
          <p:nvPr/>
        </p:nvCxnSpPr>
        <p:spPr>
          <a:xfrm>
            <a:off x="1662120" y="5106600"/>
            <a:ext cx="1961280" cy="83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23-09-06T10:38:28Z</cp:lastPrinted>
  <dcterms:modified xsi:type="dcterms:W3CDTF">2024-09-05T13:12:12Z</dcterms:modified>
  <cp:revision>179</cp:revision>
  <dc:subject/>
  <dc:title>PowerPoint Presentation</dc:title>
</cp:coreProperties>
</file>